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A2F6-9E17-412A-9D4B-FD452C93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0906-E801-4899-8263-0DACB7C2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0E1C-4B98-4BDE-B3ED-44807C3E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819-FF9A-4FD1-A23C-E14E7FFD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778A-65BC-4599-9B84-FEBC8E01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9F9-EF57-4BFE-BBEA-880E9ADD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45AF-909A-4738-91D3-5A7023B1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7151-1771-4BAD-BBBC-51F5F9E1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1F8D-F544-4BA7-B2CB-8B060D47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44F4-0C9E-4969-A6E2-8FEC4834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CFD-68A7-4748-93D7-C9238118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B4F2-58A8-4C78-884E-00F3E4C9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3634-4A25-45B6-960D-E084DB9CE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42920" y="404640"/>
            <a:ext cx="712944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вумерные </a:t>
            </a:r>
            <a:endParaRPr b="0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ссивы</a:t>
            </a:r>
            <a:endParaRPr b="0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5373720"/>
            <a:ext cx="44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Автор: учитель информатики МКОУ Плесской средней общеобразовательной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Юдин Андрей Борис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4365720"/>
            <a:ext cx="19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Часть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 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26920" y="1268280"/>
            <a:ext cx="3744720" cy="5184720"/>
            <a:chOff x="826920" y="1268280"/>
            <a:chExt cx="3744720" cy="5184720"/>
          </a:xfrm>
        </p:grpSpPr>
        <p:sp>
          <p:nvSpPr>
            <p:cNvPr id="111" name=""/>
            <p:cNvSpPr/>
            <p:nvPr/>
          </p:nvSpPr>
          <p:spPr>
            <a:xfrm>
              <a:off x="1499760" y="2732040"/>
              <a:ext cx="2346480" cy="64764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87320" y="3701880"/>
              <a:ext cx="2065320" cy="72576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98560" y="2492280"/>
              <a:ext cx="21960" cy="2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20520" y="3379680"/>
              <a:ext cx="0" cy="32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26920" y="4427640"/>
              <a:ext cx="0" cy="32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125000" y="4753080"/>
              <a:ext cx="15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125360" y="3053880"/>
              <a:ext cx="0" cy="169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25360" y="3054240"/>
              <a:ext cx="37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240" y="3054240"/>
              <a:ext cx="37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22440" y="3054240"/>
              <a:ext cx="0" cy="210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826920" y="5156280"/>
              <a:ext cx="339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74560" y="1773000"/>
              <a:ext cx="2346120" cy="7192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98560" y="1268280"/>
              <a:ext cx="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6920" y="21319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26920" y="2131560"/>
              <a:ext cx="0" cy="302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79640" y="213192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1640" y="2131920"/>
              <a:ext cx="0" cy="36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698200" y="5732280"/>
              <a:ext cx="187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98560" y="5732280"/>
              <a:ext cx="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-5760" y="620640"/>
            <a:ext cx="51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Блок-схема заполнения с клави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1052640"/>
            <a:ext cx="3745080" cy="1800000"/>
          </a:xfrm>
          <a:prstGeom prst="wedgeRoundRectCallout">
            <a:avLst>
              <a:gd name="adj1" fmla="val -93069"/>
              <a:gd name="adj2" fmla="val -75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(Внеш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87310"/>
              <a:gd name="adj2" fmla="val -1030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 (Внутрен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762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случайными числ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4440" y="1267920"/>
            <a:ext cx="8373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 j] := random(2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 - 10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 j]:6)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3141720"/>
            <a:ext cx="3384360" cy="649080"/>
          </a:xfrm>
          <a:prstGeom prst="rect">
            <a:avLst/>
          </a:prstGeom>
          <a:noFill/>
          <a:ln w="349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78620"/>
              <a:gd name="adj2" fmla="val -70402"/>
              <a:gd name="adj3" fmla="val 16667"/>
            </a:avLst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te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без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N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выводит элементы массива в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4437000"/>
            <a:ext cx="2016360" cy="647640"/>
          </a:xfrm>
          <a:prstGeom prst="rect">
            <a:avLst/>
          </a:prstGeom>
          <a:noFill/>
          <a:ln w="414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3640" y="3645000"/>
            <a:ext cx="3240360" cy="2520720"/>
          </a:xfrm>
          <a:prstGeom prst="wedgeRoundRectCallout">
            <a:avLst>
              <a:gd name="adj1" fmla="val -79004"/>
              <a:gd name="adj2" fmla="val 62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гда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я строка закончилась, пишем пустой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teLN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для перехода на нов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284720" y="4076640"/>
            <a:ext cx="453528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1989000"/>
            <a:ext cx="2346480" cy="648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19280" y="3933720"/>
            <a:ext cx="2232000" cy="72576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46440" y="1749600"/>
            <a:ext cx="22320" cy="23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68760" y="2637000"/>
            <a:ext cx="0" cy="322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4653000"/>
            <a:ext cx="0" cy="3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187280" y="4941720"/>
            <a:ext cx="150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1172880" y="2311560"/>
            <a:ext cx="14040" cy="263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73240" y="2311560"/>
            <a:ext cx="37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94120" y="2311560"/>
            <a:ext cx="376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70320" y="2311560"/>
            <a:ext cx="14400" cy="29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99640" y="5300640"/>
            <a:ext cx="33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440" y="1030320"/>
            <a:ext cx="2346120" cy="7192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6440" y="5256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74800" y="13892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874800" y="1388880"/>
            <a:ext cx="25200" cy="391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27520" y="13892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19520" y="1389240"/>
            <a:ext cx="23760" cy="427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771640" y="5661000"/>
            <a:ext cx="187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5661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924280"/>
            <a:ext cx="216036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71628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1052640"/>
            <a:ext cx="3745080" cy="1800000"/>
          </a:xfrm>
          <a:prstGeom prst="wedgeRoundRectCallout">
            <a:avLst>
              <a:gd name="adj1" fmla="val -91032"/>
              <a:gd name="adj2" fmla="val -2707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(Внеш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90208"/>
              <a:gd name="adj2" fmla="val -1498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 (Внутрен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9400" y="476280"/>
            <a:ext cx="61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по правил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15120" y="1196640"/>
            <a:ext cx="7355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 j] :=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ФОРМУЛ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 j]:6)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340280"/>
            <a:ext cx="8532720" cy="399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олнить произвольный массив размером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x N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N&lt;10) по следующему правил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3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4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5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1127160"/>
            <a:ext cx="860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ВВеди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i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4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357720"/>
            <a:ext cx="1871640" cy="64764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3284640"/>
            <a:ext cx="2737080" cy="1800000"/>
          </a:xfrm>
          <a:prstGeom prst="wedgeRoundRectCallout">
            <a:avLst>
              <a:gd name="adj1" fmla="val -80740"/>
              <a:gd name="adj2" fmla="val -30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начение элемента в каждой ячейке строки равно номеру ст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48261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268280"/>
            <a:ext cx="648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177336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6364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27664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5928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5928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6364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11280" y="278136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5928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5120" y="765000"/>
            <a:ext cx="23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    2    3   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1268280"/>
            <a:ext cx="50328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74840" y="907920"/>
            <a:ext cx="48135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Главная диагона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=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0" y="2205000"/>
            <a:ext cx="505764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Побочная диагона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J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=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N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3461040"/>
            <a:ext cx="8642160" cy="3291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произвольный массив размеро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x N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&lt;10) по следующему правилу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7840" y="204120"/>
            <a:ext cx="896616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Веди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f (i+j = n+1) then a[i,j]: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   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lse a[i,j]:=0;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a[i,j]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2708280"/>
            <a:ext cx="5545440" cy="1225440"/>
          </a:xfrm>
          <a:prstGeom prst="rect">
            <a:avLst/>
          </a:prstGeom>
          <a:noFill/>
          <a:ln w="349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80000" y="4005360"/>
            <a:ext cx="3095640" cy="1944720"/>
          </a:xfrm>
          <a:prstGeom prst="wedgeRoundRectCallout">
            <a:avLst>
              <a:gd name="adj1" fmla="val -80666"/>
              <a:gd name="adj2" fmla="val -54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Если побочная диагональ то заполнить ячейку 1 во всех остальных случаях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403200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8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16720" y="2133720"/>
            <a:ext cx="2449440" cy="2950920"/>
          </a:xfrm>
          <a:prstGeom prst="wedgeRoundRectCallout">
            <a:avLst>
              <a:gd name="adj1" fmla="val -73009"/>
              <a:gd name="adj2" fmla="val -3149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Фрагмент блок-схемы задачи заполнения побочной диагонали едини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1989000"/>
            <a:ext cx="1719360" cy="50976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4581360"/>
            <a:ext cx="1944720" cy="57168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35280" y="1844640"/>
            <a:ext cx="17640" cy="18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64000" y="5950080"/>
            <a:ext cx="0" cy="25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971640" y="5589720"/>
            <a:ext cx="46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332000" y="2276280"/>
            <a:ext cx="0" cy="30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2276640"/>
            <a:ext cx="149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227664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2276640"/>
            <a:ext cx="0" cy="33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410920" y="436572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268280"/>
            <a:ext cx="1717920" cy="5652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1557360"/>
            <a:ext cx="184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971640" y="1557000"/>
            <a:ext cx="0" cy="403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15573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563640" y="59500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35280" y="5157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3429000"/>
            <a:ext cx="1582560" cy="622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549360"/>
            <a:ext cx="1512720" cy="57132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333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5280" y="1125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16360" y="2637000"/>
            <a:ext cx="1439640" cy="8632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+j=N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56000" y="3068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410920" y="306864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3429000"/>
            <a:ext cx="1582560" cy="622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11280" y="306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16360" y="306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11280" y="4076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16360" y="4005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4365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332000" y="537372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155736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6520" y="263700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86160" y="270828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35280" y="24922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092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3200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9079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092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164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9236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32000" y="148428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206064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7164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5092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71640" y="263700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3200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092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7164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92360" y="3213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76720" y="765000"/>
            <a:ext cx="3672000" cy="2592720"/>
          </a:xfrm>
          <a:prstGeom prst="wedgeRoundRectCallout">
            <a:avLst>
              <a:gd name="adj1" fmla="val -74643"/>
              <a:gd name="adj2" fmla="val -91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i &lt; 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3976560"/>
            <a:ext cx="3672000" cy="2621160"/>
          </a:xfrm>
          <a:prstGeom prst="wedgeRoundRectCallout">
            <a:avLst>
              <a:gd name="adj1" fmla="val -91333"/>
              <a:gd name="adj2" fmla="val -570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urier New"/>
              </a:rPr>
              <a:t>i </a:t>
            </a: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ru-RU" sz="5400" spc="-1" strike="noStrike">
                <a:solidFill>
                  <a:srgbClr val="0000ff"/>
                </a:solidFill>
                <a:latin typeface="Courier New"/>
              </a:rPr>
              <a:t> 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1052640"/>
            <a:ext cx="28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7520" y="47628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9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9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2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2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7236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308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3236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5308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13800" y="62064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7236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5308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1380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93080" y="1197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3236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72360" y="177336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9308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81380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236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53080" y="2349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1380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9308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3236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7236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32360" y="2925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5308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81380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052640"/>
            <a:ext cx="3671640" cy="2592360"/>
          </a:xfrm>
          <a:prstGeom prst="wedgeRoundRectCallout">
            <a:avLst>
              <a:gd name="adj1" fmla="val 73476"/>
              <a:gd name="adj2" fmla="val -5006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+j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n+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05360"/>
            <a:ext cx="3672000" cy="2592360"/>
          </a:xfrm>
          <a:prstGeom prst="wedgeRoundRectCallout">
            <a:avLst>
              <a:gd name="adj1" fmla="val 7111"/>
              <a:gd name="adj2" fmla="val -70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+j&gt;n+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925520" y="26028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604360" y="765000"/>
            <a:ext cx="28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4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7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7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601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8292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0364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400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2205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8292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0364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2436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64000" y="2781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4328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82920" y="335772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00364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2436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6400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4328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8292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03640" y="3933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72436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4328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292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0364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24360" y="451008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6400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4328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11280" y="2349360"/>
            <a:ext cx="287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09520" y="184464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64000" y="3933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43280" y="450864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003640" y="2781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205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195640" y="836640"/>
            <a:ext cx="5473440" cy="719280"/>
          </a:xfrm>
          <a:prstGeom prst="wedgeRoundRectCallout">
            <a:avLst>
              <a:gd name="adj1" fmla="val -5657"/>
              <a:gd name="adj2" fmla="val 1422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(i+j&lt;n+1)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l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15280" y="2205000"/>
            <a:ext cx="2628720" cy="1152720"/>
          </a:xfrm>
          <a:prstGeom prst="wedgeRoundRectCallout">
            <a:avLst>
              <a:gd name="adj1" fmla="val -54347"/>
              <a:gd name="adj2" fmla="val 1016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&gt;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l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35280" y="5661000"/>
            <a:ext cx="5473440" cy="719280"/>
          </a:xfrm>
          <a:prstGeom prst="wedgeRoundRectCallout">
            <a:avLst>
              <a:gd name="adj1" fmla="val 143"/>
              <a:gd name="adj2" fmla="val -1318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&gt;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g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2205000"/>
            <a:ext cx="2629080" cy="1152720"/>
          </a:xfrm>
          <a:prstGeom prst="wedgeRoundRectCallout">
            <a:avLst>
              <a:gd name="adj1" fmla="val 57546"/>
              <a:gd name="adj2" fmla="val 858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82920" y="26028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истемы неравенс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14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1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2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2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3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3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5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5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9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6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6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7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7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9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80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8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546120"/>
            <a:ext cx="85010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произвольный массив размер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x 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&lt;10) по следующему правил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00720" y="3573360"/>
            <a:ext cx="3527280" cy="2376720"/>
          </a:xfrm>
          <a:prstGeom prst="wedgeRoundRectCallout">
            <a:avLst>
              <a:gd name="adj1" fmla="val -67013"/>
              <a:gd name="adj2" fmla="val -107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Это пересечение двух множеств. Элементы лежащие на и ниже побочной диагонали и элементы лежащие на и выше главной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476280"/>
            <a:ext cx="9001080" cy="605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f (i+j&gt;=n+1) and (i&lt;=j) then a[i,j]:=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lse a[i,j]:=0;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(a[i,j]: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55640" y="2276640"/>
            <a:ext cx="8064360" cy="10080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92720" y="3789360"/>
            <a:ext cx="3166920" cy="1224000"/>
          </a:xfrm>
          <a:prstGeom prst="wedgeRoundRectCallout">
            <a:avLst>
              <a:gd name="adj1" fmla="val -70953"/>
              <a:gd name="adj2" fmla="val -908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оверяем условие принадлежности данному множ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788000" y="3429000"/>
            <a:ext cx="3108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620640"/>
            <a:ext cx="84963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CyrillicUniversity"/>
              </a:rPr>
              <a:t>В математик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CyrillicUniversity"/>
              </a:rPr>
              <a:t>таблицы чисел, состоящие из строк и столбцов называютс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CyrillicUniversity"/>
              </a:rPr>
              <a:t>матрицам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CyrillicUniversity"/>
              </a:rPr>
              <a:t>и записываются в круглых скобках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yrillicUniversit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908000" y="2349360"/>
                <a:ext cx="4572000" cy="35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7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7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трицы                                                                                  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1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76320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олнить двумерный массив N 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лучайными числами из интервала [-10 ; 10] и найти сумму элементов  массива лежащих  на главной диагон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82600" y="404640"/>
            <a:ext cx="47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дин или два прохода по масси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489600"/>
            <a:ext cx="8424720" cy="63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Первый способ. Один проход по масс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random(20)-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:4);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i=j) then s:=s+ a[i,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('Сумма элементов  =',s:5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59280" y="3429000"/>
            <a:ext cx="4321080" cy="10080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35640" y="1844640"/>
            <a:ext cx="3384360" cy="1297080"/>
          </a:xfrm>
          <a:prstGeom prst="wedgeRoundRectCallout">
            <a:avLst>
              <a:gd name="adj1" fmla="val -33490"/>
              <a:gd name="adj2" fmla="val 7080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случайными числами и выводим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59280" y="4437000"/>
            <a:ext cx="4321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59280" y="5373720"/>
            <a:ext cx="3384720" cy="1484280"/>
          </a:xfrm>
          <a:prstGeom prst="wedgeRoundRectCallout">
            <a:avLst>
              <a:gd name="adj1" fmla="val -43435"/>
              <a:gd name="adj2" fmla="val -783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 сразу же находим сумму элементов лежащих на главной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95280"/>
            <a:ext cx="9144000" cy="645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Второй способ. Два прохода по масс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('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a[i,j]:=random(20)-1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i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j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if (i=j) then s:=s+ a[i,j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('Сумма элементов</a:t>
            </a: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=',s:5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0920" y="1844640"/>
            <a:ext cx="5473440" cy="3168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981000"/>
            <a:ext cx="3024360" cy="1582920"/>
          </a:xfrm>
          <a:prstGeom prst="wedgeRoundRectCallout">
            <a:avLst>
              <a:gd name="adj1" fmla="val -53833"/>
              <a:gd name="adj2" fmla="val 8851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вый проход. Заполняем массив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0920" y="5084640"/>
            <a:ext cx="5473440" cy="1297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96000" y="4365720"/>
            <a:ext cx="3024000" cy="861840"/>
          </a:xfrm>
          <a:prstGeom prst="wedgeRoundRectCallout">
            <a:avLst>
              <a:gd name="adj1" fmla="val -52833"/>
              <a:gd name="adj2" fmla="val 1188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торой проход. Находим сум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9280" y="907920"/>
            <a:ext cx="8785440" cy="388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Замеч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Если нужно что то сделать т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с главной диагонал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то можно обойтись без вложенных цик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:=1 to n do</a:t>
            </a: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Courier New"/>
              </a:rPr>
              <a:t>s:=s+ a[i,</a:t>
            </a:r>
            <a:r>
              <a:rPr b="1" lang="en-US" sz="3600" spc="-1" strike="noStrike">
                <a:solidFill>
                  <a:srgbClr val="ff3300"/>
                </a:solidFill>
                <a:latin typeface="Courier New"/>
              </a:rPr>
              <a:t>i</a:t>
            </a:r>
            <a:r>
              <a:rPr b="1" lang="ru-RU" sz="3600" spc="-1" strike="noStrike">
                <a:solidFill>
                  <a:srgbClr val="ff3300"/>
                </a:solidFill>
                <a:latin typeface="Courier New"/>
              </a:rPr>
              <a:t>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01920" y="256536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39800" y="38847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54280" y="235116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674800" y="297324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80000" y="278136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6360" y="1916280"/>
            <a:ext cx="2257560" cy="4348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39800" y="3176640"/>
            <a:ext cx="207828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678040" y="3732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19280" y="4762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08000" y="1125360"/>
            <a:ext cx="144000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27280" y="1700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627280" y="981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27280" y="333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79640" y="4508640"/>
            <a:ext cx="1440000" cy="86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 =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08360" y="472428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=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19640" y="4941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0" y="530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116000" y="5516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116000" y="2781360"/>
            <a:ext cx="0" cy="273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00360" y="5373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700360" y="4365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16000" y="2781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651640" y="2781360"/>
            <a:ext cx="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826920" y="5661000"/>
            <a:ext cx="482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826920" y="2133720"/>
            <a:ext cx="0" cy="35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213372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08360" y="21337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7280" y="2133720"/>
            <a:ext cx="0" cy="367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627280" y="5805360"/>
            <a:ext cx="32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47640" y="60213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27280" y="5805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627280" y="6524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78520" y="458136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81440" y="515772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27640" y="476280"/>
            <a:ext cx="4411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один проход по масси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66200" y="333360"/>
            <a:ext cx="3674160" cy="5183280"/>
            <a:chOff x="466200" y="333360"/>
            <a:chExt cx="3674160" cy="5183280"/>
          </a:xfrm>
        </p:grpSpPr>
        <p:sp>
          <p:nvSpPr>
            <p:cNvPr id="389" name=""/>
            <p:cNvSpPr/>
            <p:nvPr/>
          </p:nvSpPr>
          <p:spPr>
            <a:xfrm>
              <a:off x="1141560" y="2709720"/>
              <a:ext cx="225576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79440" y="4029120"/>
              <a:ext cx="198612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93920" y="2495520"/>
              <a:ext cx="2052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14440" y="3117960"/>
              <a:ext cx="0" cy="22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19640" y="29257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16000" y="2060640"/>
              <a:ext cx="225756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79440" y="3321000"/>
              <a:ext cx="2078280" cy="555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i , j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лучайное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[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;10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17680" y="3876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58920" y="620640"/>
              <a:ext cx="198576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47640" y="1270080"/>
              <a:ext cx="144000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66920" y="1844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66920" y="112536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68360" y="508644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55280" y="465300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755640" y="2925720"/>
              <a:ext cx="0" cy="17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40000" y="451008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5640" y="292572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24360" y="292572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68360" y="479736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466200" y="2278080"/>
              <a:ext cx="1800" cy="25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6560" y="227808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48000" y="227808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40360" y="2278080"/>
              <a:ext cx="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268360" y="5086440"/>
              <a:ext cx="18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68360" y="33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68360" y="5229360"/>
              <a:ext cx="28764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6553080" y="141300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785840" y="1700280"/>
            <a:ext cx="3999240" cy="5040360"/>
            <a:chOff x="4785840" y="1700280"/>
            <a:chExt cx="3999240" cy="5040360"/>
          </a:xfrm>
        </p:grpSpPr>
        <p:sp>
          <p:nvSpPr>
            <p:cNvPr id="417" name=""/>
            <p:cNvSpPr/>
            <p:nvPr/>
          </p:nvSpPr>
          <p:spPr>
            <a:xfrm>
              <a:off x="5460840" y="2565360"/>
              <a:ext cx="225612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13560" y="2351160"/>
              <a:ext cx="2052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38920" y="2781360"/>
              <a:ext cx="61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435640" y="1916280"/>
              <a:ext cx="225756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86560" y="17002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04000" y="3139920"/>
              <a:ext cx="1439640" cy="86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 =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61080" y="4292640"/>
              <a:ext cx="172872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 =S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+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24720" y="4005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11280" y="5157720"/>
              <a:ext cx="151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111640" y="2781000"/>
              <a:ext cx="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4720" y="4869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11640" y="2781360"/>
              <a:ext cx="3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353440" y="2781360"/>
              <a:ext cx="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4785840" y="5661000"/>
              <a:ext cx="356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786200" y="2133720"/>
              <a:ext cx="0" cy="35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86200" y="213372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667640" y="2131560"/>
              <a:ext cx="1117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85080" y="2131920"/>
              <a:ext cx="0" cy="367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6586200" y="5805360"/>
              <a:ext cx="21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06920" y="6021360"/>
              <a:ext cx="198612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86560" y="58053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96000" y="3932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46880" y="3213000"/>
              <a:ext cx="5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5111280" y="357336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24720" y="2997360"/>
              <a:ext cx="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553080" y="6524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419640" y="549360"/>
            <a:ext cx="547344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два про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68360" y="836640"/>
            <a:ext cx="3673440" cy="5183280"/>
            <a:chOff x="468360" y="836640"/>
            <a:chExt cx="3673440" cy="5183280"/>
          </a:xfrm>
        </p:grpSpPr>
        <p:sp>
          <p:nvSpPr>
            <p:cNvPr id="446" name=""/>
            <p:cNvSpPr/>
            <p:nvPr/>
          </p:nvSpPr>
          <p:spPr>
            <a:xfrm>
              <a:off x="1143000" y="3213000"/>
              <a:ext cx="225540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80880" y="4532400"/>
              <a:ext cx="198576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295360" y="2998800"/>
              <a:ext cx="2016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15880" y="3621240"/>
              <a:ext cx="0" cy="22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1080" y="3429000"/>
              <a:ext cx="50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7440" y="2563920"/>
              <a:ext cx="225720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80880" y="3824280"/>
              <a:ext cx="2077920" cy="555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i , j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лучайное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[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;10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19120" y="4380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60360" y="1123920"/>
              <a:ext cx="198540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49080" y="1773360"/>
              <a:ext cx="143964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268360" y="234792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68360" y="16286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69800" y="558972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57080" y="5156280"/>
              <a:ext cx="158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57080" y="3429000"/>
              <a:ext cx="0" cy="17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41440" y="501336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7080" y="3429000"/>
              <a:ext cx="43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25800" y="342900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469440" y="5300640"/>
              <a:ext cx="34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468360" y="2781360"/>
              <a:ext cx="1440" cy="25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8360" y="278136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49440" y="278136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41800" y="2781360"/>
              <a:ext cx="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2269440" y="558972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69800" y="83664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69800" y="573264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5437080" y="313992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88000" y="292428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726160" y="3932280"/>
            <a:ext cx="17287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=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589800" y="357336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789080" y="4797360"/>
            <a:ext cx="180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589800" y="4508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4788000" y="3357360"/>
            <a:ext cx="144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788000" y="335772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669080" y="335772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102520" y="3357720"/>
            <a:ext cx="0" cy="20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6517800" y="5445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435640" y="566100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18160" y="5445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516720" y="6165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492360" y="404640"/>
            <a:ext cx="54738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два прохода (в случае когда речь идет только о главной диагонали и остальной массив не нуж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элемент                                                         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44320" y="40464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Один или два прохода по массиву? Рассуждение втор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4000" y="906840"/>
            <a:ext cx="849600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двумерный массив N 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йными числами из интервала [-10 ; 10] и найти минимальный элемент лежащий на главной диагон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7200720" cy="256392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1619280" y="4005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 элемент                                                    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1040" y="366480"/>
            <a:ext cx="853812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ff"/>
                </a:solidFill>
                <a:uFillTx/>
                <a:latin typeface="Times New Roman"/>
              </a:rPr>
              <a:t>Стандартный способ без анализа 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('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ВВеди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[i,j]:=random(2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)-1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m:=a[1,1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i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j:=1 to n d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if (a[i,j]&lt;m) and (i=j) then m:=a[i,j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(' Минимальный элемент =',m:5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9640" y="1341360"/>
            <a:ext cx="5545080" cy="3167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96000" y="1052640"/>
            <a:ext cx="3095640" cy="1224000"/>
          </a:xfrm>
          <a:prstGeom prst="wedgeRoundRectCallout">
            <a:avLst>
              <a:gd name="adj1" fmla="val -39694"/>
              <a:gd name="adj2" fmla="val 15661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массив случайными чис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508640"/>
            <a:ext cx="2089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24360" y="3645000"/>
            <a:ext cx="3095640" cy="1439640"/>
          </a:xfrm>
          <a:prstGeom prst="wedgeRoundRectCallout">
            <a:avLst>
              <a:gd name="adj1" fmla="val -90412"/>
              <a:gd name="adj2" fmla="val 25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минимальный элемент стоит в левом верхнем уг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987640" y="5950080"/>
            <a:ext cx="590544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51640" y="1916280"/>
            <a:ext cx="3166920" cy="1944360"/>
          </a:xfrm>
          <a:prstGeom prst="wedgeRoundRectCallout">
            <a:avLst>
              <a:gd name="adj1" fmla="val -47143"/>
              <a:gd name="adj2" fmla="val 154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ли встречается элемент меньше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,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и он лежит на главной диагонали, то он становится мин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0920" y="1268280"/>
            <a:ext cx="8713800" cy="448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Замечание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В данном случае можно не бегать по вс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массиву а пройти только по главной диагонали, обойдясь без вложенных цик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urier New"/>
              </a:rPr>
              <a:t>m:=a[1,1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For i:=2 to n do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Courier New"/>
              </a:rPr>
              <a:t>if (a[i,i]&lt;m)  then m:=a[i,i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элемент                                                         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79280" y="620640"/>
            <a:ext cx="866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немного по рассуждать,  можно увидеть, что самое «маленькое» число, которое может выдать генератор случайных чисел это 10. Все остальные числа будут меньше его. Т.к. в условии задачи нам точно задан интерва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-1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404640"/>
            <a:ext cx="889308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С анализом исходных данных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('ВВеди N =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m:=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a[i,j]:=random(21)-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if (a[i,j]&lt;m) and (i=j) then m:=a[i,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ln(' Минимальный элемент лежащий на главной диагонали =',m:5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79280" y="1484280"/>
            <a:ext cx="158436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51640" y="1125360"/>
            <a:ext cx="3097080" cy="1727280"/>
          </a:xfrm>
          <a:prstGeom prst="wedgeRoundRectCallout">
            <a:avLst>
              <a:gd name="adj1" fmla="val -175370"/>
              <a:gd name="adj2" fmla="val -199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самое маленькое число 10, правая граница исходного интерв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79640" y="2924280"/>
            <a:ext cx="6624720" cy="1512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364000" y="4653000"/>
            <a:ext cx="3097440" cy="1727280"/>
          </a:xfrm>
          <a:prstGeom prst="wedgeRoundRectCallout">
            <a:avLst>
              <a:gd name="adj1" fmla="val -120273"/>
              <a:gd name="adj2" fmla="val -631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, выводим на экран и сразу проверяем на минимальность в главной диагон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 . Максимальный элемент в строке                                      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9280" y="403560"/>
            <a:ext cx="878544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двумерный массив N 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йными числами из интервала [-10 ; 10] и найти максимальный элемент в каждой строк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345440" cy="31356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4140360" y="2997360"/>
            <a:ext cx="576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708360" y="3284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203640" y="350028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643280" y="3789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700360" y="4005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635280" y="4292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87280" y="4508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95640" y="4724280"/>
            <a:ext cx="576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080" y="478800"/>
            <a:ext cx="8727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x:=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random(2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:4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a[i,j]&gt;max) then max:= a[i,j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  MAx  = ',max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87280" y="620640"/>
            <a:ext cx="6697800" cy="237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Решение в один проход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с анализом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26920" y="1700280"/>
            <a:ext cx="201636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24360" y="1341360"/>
            <a:ext cx="3240360" cy="1366920"/>
          </a:xfrm>
          <a:prstGeom prst="wedgeRoundRectCallout">
            <a:avLst>
              <a:gd name="adj1" fmla="val -132902"/>
              <a:gd name="adj2" fmla="val -1202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самое большое число - 10, левая граница исходного интерв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11280" y="1125360"/>
            <a:ext cx="432108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24360" y="838080"/>
            <a:ext cx="3132360" cy="646200"/>
          </a:xfrm>
          <a:prstGeom prst="wedgeRoundRectCallout">
            <a:avLst>
              <a:gd name="adj1" fmla="val -77875"/>
              <a:gd name="adj2" fmla="val 237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ебираем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55640" y="6093000"/>
            <a:ext cx="107964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627280" y="2781360"/>
            <a:ext cx="4681440" cy="1079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12000" y="1413000"/>
            <a:ext cx="3132000" cy="1224000"/>
          </a:xfrm>
          <a:prstGeom prst="wedgeRoundRectCallout">
            <a:avLst>
              <a:gd name="adj1" fmla="val -75291"/>
              <a:gd name="adj2" fmla="val 6297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элемент массива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627280" y="3933720"/>
            <a:ext cx="651672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724360" y="4724280"/>
            <a:ext cx="3203640" cy="1944720"/>
          </a:xfrm>
          <a:prstGeom prst="wedgeRoundRectCallout">
            <a:avLst>
              <a:gd name="adj1" fmla="val -55847"/>
              <a:gd name="adj2" fmla="val -65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Если в строке встречается элемент больше максимального, то он становится макс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6920" y="4941720"/>
            <a:ext cx="4969080" cy="57636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427640" y="5516640"/>
            <a:ext cx="3203640" cy="1144440"/>
          </a:xfrm>
          <a:prstGeom prst="wedgeRoundRectCallout">
            <a:avLst>
              <a:gd name="adj1" fmla="val -81564"/>
              <a:gd name="adj2" fmla="val -498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водим наибольший элемент в стр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76360" y="2276640"/>
            <a:ext cx="2255760" cy="4316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19280" y="364500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627280" y="213372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627280" y="270828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360" y="249228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403280" y="112536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19280" y="2924280"/>
            <a:ext cx="20779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700360" y="3500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19280" y="4762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08000" y="1773360"/>
            <a:ext cx="144000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627280" y="155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627280" y="981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79640" y="4292640"/>
            <a:ext cx="1440000" cy="86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gt;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708360" y="443700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x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19640" y="4724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0" y="5013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116000" y="5300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116000" y="249192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00360" y="5157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00360" y="4149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16000" y="2492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580000" y="2492280"/>
            <a:ext cx="0" cy="302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826920" y="6453360"/>
            <a:ext cx="187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826920" y="1341360"/>
            <a:ext cx="0" cy="511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26920" y="134136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34136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796000" y="1341360"/>
            <a:ext cx="0" cy="496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700000" y="551664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19280" y="57340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00360" y="551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41497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92360" y="48690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00360" y="623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940360" y="476280"/>
            <a:ext cx="2989440" cy="1769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Нахождение максимального элемента в каждой строке в один прох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27280" y="333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03640" y="630864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Применение.                                                                            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6480000" cy="3305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90120" y="476280"/>
            <a:ext cx="81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спользование двумерных массивов для построения поверх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67280" y="1268280"/>
            <a:ext cx="4600440" cy="5162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76183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79280" y="549360"/>
            <a:ext cx="864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‘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вед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[i,j]:=random(2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)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50920" y="3645000"/>
            <a:ext cx="3203640" cy="1144440"/>
          </a:xfrm>
          <a:prstGeom prst="wedgeRoundRectCallout">
            <a:avLst>
              <a:gd name="adj1" fmla="val 73833"/>
              <a:gd name="adj2" fmla="val -1196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массив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79280" y="620640"/>
            <a:ext cx="87138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max:=a[i,1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For j:=2 to n do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if (a[i,j]&gt;max) the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max:= a[i,j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writeln('В ',i,' строке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x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 = ',max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0920" y="692280"/>
            <a:ext cx="4321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0920" y="3500280"/>
            <a:ext cx="115236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68360" y="1268280"/>
            <a:ext cx="266364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9640" y="1844640"/>
            <a:ext cx="8209080" cy="107964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55640" y="2924280"/>
            <a:ext cx="7993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435640" y="549360"/>
            <a:ext cx="3132000" cy="646200"/>
          </a:xfrm>
          <a:prstGeom prst="wedgeRoundRectCallout">
            <a:avLst>
              <a:gd name="adj1" fmla="val -77875"/>
              <a:gd name="adj2" fmla="val 237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ебираем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508720" y="404640"/>
            <a:ext cx="3456000" cy="1511640"/>
          </a:xfrm>
          <a:prstGeom prst="wedgeRoundRectCallout">
            <a:avLst>
              <a:gd name="adj1" fmla="val -118351"/>
              <a:gd name="adj2" fmla="val 23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наибольший элемент в каждой строке стоит на первом ме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580000" y="3573360"/>
            <a:ext cx="3240000" cy="1943280"/>
          </a:xfrm>
          <a:prstGeom prst="wedgeRoundRectCallout">
            <a:avLst>
              <a:gd name="adj1" fmla="val -67097"/>
              <a:gd name="adj2" fmla="val -82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дем по строке и если находим элемент больший чем максимальный, то он становится макс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268360" y="4292640"/>
            <a:ext cx="3167280" cy="936720"/>
          </a:xfrm>
          <a:prstGeom prst="wedgeRoundRectCallout">
            <a:avLst>
              <a:gd name="adj1" fmla="val 6592"/>
              <a:gd name="adj2" fmla="val -1398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вод наибольшего элемента в стр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547640" y="692280"/>
            <a:ext cx="6336000" cy="28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тандартным способ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ервый проход – заполн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торой проход – поис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аксимального в стро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0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52480" y="249552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90720" y="3814920"/>
            <a:ext cx="1985760" cy="51084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004840" y="2281320"/>
            <a:ext cx="2088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025720" y="290340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130560" y="271152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26920" y="1846440"/>
            <a:ext cx="2257560" cy="4348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106800"/>
            <a:ext cx="20779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028960" y="3662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71640" y="112536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978200" y="16304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979640" y="4871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66200" y="44388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66560" y="2711520"/>
            <a:ext cx="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050920" y="429588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66560" y="27115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635280" y="271152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79280" y="458316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 flipV="1">
            <a:off x="177840" y="2063880"/>
            <a:ext cx="1440" cy="25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7840" y="206388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059280" y="20638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51280" y="2063880"/>
            <a:ext cx="0" cy="28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1979280" y="487188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981080" y="8380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19280" y="494172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932360" y="234936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2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083280" y="220680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083280" y="2781360"/>
            <a:ext cx="0" cy="22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164360" y="2565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59280" y="119844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4000" y="1773360"/>
            <a:ext cx="1440000" cy="433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083280" y="1630440"/>
            <a:ext cx="144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83280" y="105408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64000" y="2997360"/>
            <a:ext cx="1440000" cy="8632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i , j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92720" y="407664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x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571640" y="3429000"/>
            <a:ext cx="793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084720" y="386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4571640" y="4797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572000" y="256536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156360" y="4653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572000" y="2565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885080" y="256536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4284360" y="5950080"/>
            <a:ext cx="187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4282560" y="1414080"/>
            <a:ext cx="1800" cy="453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282920" y="141444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7091280" y="141300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6084360" y="501336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076720" y="52293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08472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227640" y="371628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88000" y="3068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15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172360" y="1413000"/>
            <a:ext cx="0" cy="43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12000" y="76500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187280" y="47628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80360" y="580536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79280" y="5229360"/>
            <a:ext cx="392436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Нахождение максимального элемента в каждой строке в два прох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ределение.                                                                        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50080"/>
            <a:ext cx="8713800" cy="350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Массив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 это пронумерованная последовательность величин одинакового типа, обозначаемая одним именем. Элементы массива располагаются в последовательных ячейках памяти, обозначаются именем массива и индексом. Каждое из значений, составляющих массив, называется его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компоненто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  (или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элементом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 массив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4292640"/>
            <a:ext cx="87123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особ организации данных, при котором каждый элемент определяется номером строки и номером столбца, на пересечении которых он расположен, называется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двумерным массивом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ределение                                                                          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71640" y="1413000"/>
          <a:ext cx="4824000" cy="3023640"/>
        </p:xfrm>
        <a:graphic>
          <a:graphicData uri="http://schemas.openxmlformats.org/drawingml/2006/table">
            <a:tbl>
              <a:tblPr/>
              <a:tblGrid>
                <a:gridCol w="803880"/>
                <a:gridCol w="803880"/>
                <a:gridCol w="804240"/>
                <a:gridCol w="804240"/>
                <a:gridCol w="803520"/>
                <a:gridCol w="80424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890640" y="765000"/>
            <a:ext cx="51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      2      3      4      5      6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0160" y="1700280"/>
            <a:ext cx="37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9400" y="40464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В математике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46160" y="177336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ascal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83120" y="765000"/>
            <a:ext cx="1181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4800" spc="-1" strike="noStrike" baseline="-25000">
                <a:solidFill>
                  <a:srgbClr val="ff3300"/>
                </a:solidFill>
                <a:latin typeface="Courier New"/>
              </a:rPr>
              <a:t>i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Courier New"/>
              </a:rPr>
              <a:t>;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2133720"/>
            <a:ext cx="23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en-US" sz="4800" spc="-1" strike="noStrike">
                <a:solidFill>
                  <a:srgbClr val="ff3300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j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6000" y="4149720"/>
            <a:ext cx="2879640" cy="1079640"/>
          </a:xfrm>
          <a:prstGeom prst="wedgeRoundRectCallout">
            <a:avLst>
              <a:gd name="adj1" fmla="val -117532"/>
              <a:gd name="adj2" fmla="val -1533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5084640"/>
            <a:ext cx="2879640" cy="1079640"/>
          </a:xfrm>
          <a:prstGeom prst="wedgeRoundRectCallout">
            <a:avLst>
              <a:gd name="adj1" fmla="val -58875"/>
              <a:gd name="adj2" fmla="val -34147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5445000"/>
            <a:ext cx="2879640" cy="1079640"/>
          </a:xfrm>
          <a:prstGeom prst="wedgeRoundRectCallout">
            <a:avLst>
              <a:gd name="adj1" fmla="val -59152"/>
              <a:gd name="adj2" fmla="val -204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3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5720" y="333360"/>
            <a:ext cx="77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амый простой способ описания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90792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array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..10,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..20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]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of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real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05000"/>
            <a:ext cx="2087640" cy="1008000"/>
          </a:xfrm>
          <a:prstGeom prst="wedgeRoundRectCallout">
            <a:avLst>
              <a:gd name="adj1" fmla="val -32435"/>
              <a:gd name="adj2" fmla="val -1128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Имя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9640" y="1916280"/>
            <a:ext cx="3097080" cy="1008000"/>
          </a:xfrm>
          <a:prstGeom prst="wedgeRoundRectCallout">
            <a:avLst>
              <a:gd name="adj1" fmla="val -2384"/>
              <a:gd name="adj2" fmla="val -8275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личество ст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5280" y="2924280"/>
            <a:ext cx="2737080" cy="1008000"/>
          </a:xfrm>
          <a:prstGeom prst="wedgeRoundRectCallout">
            <a:avLst>
              <a:gd name="adj1" fmla="val 11657"/>
              <a:gd name="adj2" fmla="val -184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личество столб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16720" y="2276640"/>
            <a:ext cx="2376360" cy="1511280"/>
          </a:xfrm>
          <a:prstGeom prst="wedgeRoundRectCallout">
            <a:avLst>
              <a:gd name="adj1" fmla="val -6314"/>
              <a:gd name="adj2" fmla="val -94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ип данных в масс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0" y="3357720"/>
            <a:ext cx="921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rray [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.10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] of array [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. 20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] o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eal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125360"/>
            <a:ext cx="50508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5964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55200" y="2421000"/>
            <a:ext cx="59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исание как массив массив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5157720"/>
            <a:ext cx="2448000" cy="1008000"/>
          </a:xfrm>
          <a:prstGeom prst="wedgeRoundRectCallout">
            <a:avLst>
              <a:gd name="adj1" fmla="val -30222"/>
              <a:gd name="adj2" fmla="val -1599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дномер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4365720"/>
            <a:ext cx="3529080" cy="2087640"/>
          </a:xfrm>
          <a:prstGeom prst="wedgeRoundRectCallout">
            <a:avLst>
              <a:gd name="adj1" fmla="val -44689"/>
              <a:gd name="adj2" fmla="val -6269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ждый элемент которого  в свою очередь является одномерным масси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3429000"/>
            <a:ext cx="302400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3429000"/>
            <a:ext cx="309564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                                                                   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" y="763560"/>
            <a:ext cx="8942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Const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m=10; n =20;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Var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: array [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. m, 1.. n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] of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integer;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080" y="333360"/>
            <a:ext cx="850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строк и столбцов через констан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836640"/>
            <a:ext cx="3961080" cy="1366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3640" y="1197000"/>
            <a:ext cx="3529080" cy="1295280"/>
          </a:xfrm>
          <a:prstGeom prst="wedgeRoundRectCallout">
            <a:avLst>
              <a:gd name="adj1" fmla="val -73662"/>
              <a:gd name="adj2" fmla="val -110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 разделе констант указываем число строк и столб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458028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ype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t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=array[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1..m,1..n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] o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integer;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var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a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: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;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91960" y="3860640"/>
            <a:ext cx="66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м нового типа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4653000"/>
            <a:ext cx="1511280" cy="720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27280" y="2997360"/>
            <a:ext cx="3529080" cy="1726920"/>
          </a:xfrm>
          <a:prstGeom prst="wedgeRoundRectCallout">
            <a:avLst>
              <a:gd name="adj1" fmla="val -92870"/>
              <a:gd name="adj2" fmla="val 5009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яем пользовательский тип , двумер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                                                                                   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125360"/>
            <a:ext cx="896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con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: array[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.3,1..5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]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of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integer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             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(3,-2,1,4,3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-5,-9,0,3,7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     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-1,2,1,-4,0));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7600" y="549360"/>
            <a:ext cx="327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Массив конста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2492280"/>
            <a:ext cx="3600360" cy="23050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3429000"/>
            <a:ext cx="3671640" cy="2016000"/>
          </a:xfrm>
          <a:prstGeom prst="wedgeRoundRectCallout">
            <a:avLst>
              <a:gd name="adj1" fmla="val 72092"/>
              <a:gd name="adj2" fmla="val -642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епосредственно в программе указываем значения элементов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410840"/>
            <a:ext cx="853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', i, 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j,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]=  ')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adln(a[i, j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 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400" y="692280"/>
            <a:ext cx="653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с клавиату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484280"/>
            <a:ext cx="5977080" cy="64944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2133720"/>
            <a:ext cx="7704000" cy="33112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189000"/>
            <a:ext cx="6696000" cy="1152360"/>
          </a:xfrm>
          <a:prstGeom prst="wedgeRoundRectCallout">
            <a:avLst>
              <a:gd name="adj1" fmla="val -48245"/>
              <a:gd name="adj2" fmla="val 599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Берем первую, вторую и так далее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5391000"/>
            <a:ext cx="3672000" cy="1467000"/>
          </a:xfrm>
          <a:prstGeom prst="wedgeRoundRectCallout">
            <a:avLst>
              <a:gd name="adj1" fmla="val -76111"/>
              <a:gd name="adj2" fmla="val -8106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5661000"/>
            <a:ext cx="1729080" cy="574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7800" y="5516640"/>
            <a:ext cx="120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671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4:07:47Z</dcterms:created>
  <dc:creator>Юдины</dc:creator>
  <dc:description/>
  <dc:language>en-US</dc:language>
  <cp:lastModifiedBy>Юдины</cp:lastModifiedBy>
  <dcterms:modified xsi:type="dcterms:W3CDTF">2012-03-27T14:17:05Z</dcterms:modified>
  <cp:revision>117</cp:revision>
  <dc:subject/>
  <dc:title>Слайд 1</dc:title>
</cp:coreProperties>
</file>